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_rels/notesSlide7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5.png" ContentType="image/png"/>
  <Override PartName="/ppt/media/image14.wmf" ContentType="image/x-wmf"/>
  <Override PartName="/ppt/media/image5.png" ContentType="image/png"/>
  <Override PartName="/ppt/media/image2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A032E3-DF1F-4329-91AC-2EB1E2261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546B835-7227-410C-8C63-6E238D0EB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4A59AF6-DFBF-4593-B944-2B7BDBF54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F0D4F76-5BB2-47AA-A084-43197585A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C2F9940-B0A1-4540-9303-C1C8B51D4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413117F-BC5D-42D3-9A12-072893B2F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CA6B77-87C1-43CC-9E16-2602646FE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7C1BE65-A98D-4CE5-B2D2-34AF5B021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7945640-66EB-4518-8627-335B929EF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C650D90-3D7A-4408-B6B8-B34A73BFC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A714DCE-2AAF-402F-9AE9-4D97E4BBA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EE14B20-2747-4824-8D5F-0FB16D6AB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A82965-93A9-4D7F-80CD-91C484E7B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FDCE-2A8A-4074-97D6-F726E226D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E892-1A83-4741-98B3-11ECC7FA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7925-7848-475C-BDC9-FB2DC9E6A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01AE-3955-45F5-B65A-448ACFB16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B12F-1720-4730-B828-0D6E305E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6678-52C1-40CC-9B07-2D07638D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A2F6-2C8B-4376-AB27-1E23BD03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7FB7-DB7D-4EEF-B796-5460F535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8254-B506-46C2-9E42-256B5715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27F4-9882-45EA-9ECA-CE1AEB5F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C9B9-C12A-472F-A509-E2126522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D623-028A-4BDE-B07F-1753B0C4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0FD7-48E4-40C3-9889-944B4BF62F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B10C-5E21-46F0-A663-ECAA3A82C6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248520" y="64008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Money Smart for Older Ad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C0B1-4449-4E27-A022-746001C16AED}" type="slidenum">
              <a:rPr b="1" lang="en-US" sz="1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4"/>
          <a:stretch/>
        </p:blipFill>
        <p:spPr>
          <a:xfrm>
            <a:off x="736560" y="5259240"/>
            <a:ext cx="1219320" cy="847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CDF1-9FA0-4DDE-9A68-9ADA9361DE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ldercare.gov/" TargetMode="External"/><Relationship Id="rId2" Type="http://schemas.openxmlformats.org/officeDocument/2006/relationships/hyperlink" Target="http://www.ftc.gov/idtheft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2.fdic.gov/starsmail/index.asp" TargetMode="Externa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hyperlink" Target="http://www.socialsecurity.gov/blockaccess" TargetMode="External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smpresource.org/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consumerfinance.gov/askcfpb/" TargetMode="External"/><Relationship Id="rId2" Type="http://schemas.openxmlformats.org/officeDocument/2006/relationships/hyperlink" Target="mailto:communityaffairs@fdic.gov" TargetMode="External"/><Relationship Id="rId3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ftc.gov/" TargetMode="External"/><Relationship Id="rId2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va.gov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2"/>
          <a:stretch/>
        </p:blipFill>
        <p:spPr>
          <a:xfrm>
            <a:off x="7599240" y="5562720"/>
            <a:ext cx="782640" cy="379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609480" y="5437080"/>
            <a:ext cx="1441440" cy="582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" descr="MS_OlderAdultsLogo.jpg"/>
          <p:cNvPicPr/>
          <p:nvPr/>
        </p:nvPicPr>
        <p:blipFill>
          <a:blip r:embed="rId4"/>
          <a:stretch/>
        </p:blipFill>
        <p:spPr>
          <a:xfrm>
            <a:off x="2324160" y="6858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xamples of Financial Exploita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5271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inancial power of attorney (POA) or fiduciary ab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ft of money or property by caregivers and in-home help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vestment frau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ttery and sweepstakes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xamples of Financial Exploitation (cont.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5271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ephone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uter/Internet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ty the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erse mortgage proceeds frau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tractor fraud and home improvement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914040" y="9903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mily members and caregiv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riends, neighbors or acquainta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ephone and mail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inancial advis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ternet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me repair contrac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edicare scam 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th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ould Be an Abuse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y Don’t Older Adults Report Exploitatio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Shame and embarra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Loyalty to a family member or careg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Fear of retaliation or not being belie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Dependence on the abu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Den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Self-bl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Lack of awar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an Help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990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dult Protectiv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ounded Rectangle 4"/>
          <p:cNvSpPr/>
          <p:nvPr/>
        </p:nvSpPr>
        <p:spPr>
          <a:xfrm>
            <a:off x="1104840" y="160020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 contact information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ldercare.go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00-677-11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ontent Placeholder 2"/>
          <p:cNvSpPr/>
          <p:nvPr/>
        </p:nvSpPr>
        <p:spPr>
          <a:xfrm>
            <a:off x="457200" y="304812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Geneva"/>
              </a:rPr>
              <a:t>Federal Trade Commission (F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ounded Rectangle 6"/>
          <p:cNvSpPr/>
          <p:nvPr/>
        </p:nvSpPr>
        <p:spPr>
          <a:xfrm>
            <a:off x="1104840" y="389880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ases of identity theft, contact the FTC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ftc.gov/idthe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77-IDTHEFT (438-43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an Help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ederal Deposit Insurance Corpo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ol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ounded Rectangle 4"/>
          <p:cNvSpPr/>
          <p:nvPr/>
        </p:nvSpPr>
        <p:spPr>
          <a:xfrm>
            <a:off x="457200" y="4114800"/>
            <a:ext cx="8381880" cy="10159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l 911 if the situation is threatening or the person is in danger. If you believe a crime has been committed, file a polic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5"/>
          <p:cNvSpPr/>
          <p:nvPr/>
        </p:nvSpPr>
        <p:spPr>
          <a:xfrm>
            <a:off x="457200" y="1676520"/>
            <a:ext cx="8381880" cy="175248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oncerns about an FDIC-supervised financial institution, complete a customer assistance form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2.fdic.gov/starsmail/index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call: 1-877-ASK-FD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 legal document that allows someone else to handle your finances on your behal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ppoints a substitute decision-maker if you are unable to act on your 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voids the need for a court-appointed guard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s relatively inexpensive; using a lawyer is advisa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is a Power of Attorne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 Ris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sure to grant more authority than you wis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isuse of your fu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nauthorized actions – gifts, changes to beneficia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23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urable – remains effective even if maker becomes physically or mentally incapacita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lk to an attorney for help in making a POA that is appropriate for your circumstances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ust but verif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oid appointing anyone with substance abuse, gambling, or who mismanages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ell others about your PO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f needed, change, cancel, or revoke the PO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oid appointing hired caregivers/hel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ware of new “best friends” who offer to manage your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" descr="Handshake"/>
          <p:cNvPicPr/>
          <p:nvPr/>
        </p:nvPicPr>
        <p:blipFill>
          <a:blip r:embed="rId1"/>
          <a:stretch/>
        </p:blipFill>
        <p:spPr>
          <a:xfrm>
            <a:off x="304920" y="15238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ip: Plan Ahead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 durable power of attorney is a very important tool in planning for financial incapacity due to Alzheimer’s disease, another form of dementia, or other health problem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 If You Are a Victi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port  financial exploitation immediately to Adult Protective Services or your local law enforcement agenc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C:\Users\Michele\AppData\Local\Microsoft\Windows\Temporary Internet Files\Content.IE5\M311SBES\MC900286879[1].wmf"/>
          <p:cNvPicPr/>
          <p:nvPr/>
        </p:nvPicPr>
        <p:blipFill>
          <a:blip r:embed="rId1"/>
          <a:stretch/>
        </p:blipFill>
        <p:spPr>
          <a:xfrm rot="20202000">
            <a:off x="2565000" y="2792160"/>
            <a:ext cx="121932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buse by Caregivers and In-Home Help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amily members and caregivers are common perpetrators of elder financial exploit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regiver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cure your valuables, such as jewel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cure private financial documents (checks, financial statements, credit cards,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 receipts for purcha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onitor bank accounts and telephone bil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 setting up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utomatic  bill pay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ransaction ale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C:\Users\Michele\AppData\Local\Microsoft\Windows\Temporary Internet Files\Content.IE5\18280RFZ\MC900441313[1].png"/>
          <p:cNvPicPr/>
          <p:nvPr/>
        </p:nvPicPr>
        <p:blipFill>
          <a:blip r:embed="rId1"/>
          <a:stretch/>
        </p:blipFill>
        <p:spPr>
          <a:xfrm>
            <a:off x="7162920" y="37339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regiver: Safeguards (cont.)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not let hired caregivers/helpers open your mail, pay your bills, manage your finan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ver promise money or assets after you die in exchange for care now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ver lend money or personal proper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n’t put persons other than your spouse/life-partner on the title to your hom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Fraud and Abu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Misleading senior certifications/desig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onzi sche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missory n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nscrupulous financial advi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ffinity frau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nternet fraud – the “Dot-Con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nappropriate or fraudulent annu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43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 out the financial advis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n’t base your trust on appearances or the sound of a vo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Take time to understand your cho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ay “no” to pressu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Safeguard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 wary of salespeople who prey on fears or promise returns that seem “too good to be true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for a written explana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hop around and get a second opin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ay “no” to financial advisers who tell you to leave everything in their ca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: Safeguard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tay in charge of your money or enlist a trusted third par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checks payable to a company or financial institution, never an individu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tain and maintain account statements and confirm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ocument all conversations with financial advis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When Problems Occu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ke immediate action if you detect a problem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on’t let embarrassment or fear stop you from reporting exploitation or frau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2286000" y="386388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961c"/>
                </a:solidFill>
                <a:latin typeface="Arial"/>
              </a:rPr>
              <a:t>Timing is critic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cognize and reduce the risk of elder financial exploi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uard against identity the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lan for unexpected loss of the ability to manage your fina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Bank"/>
          <p:cNvPicPr/>
          <p:nvPr/>
        </p:nvPicPr>
        <p:blipFill>
          <a:blip r:embed="rId1"/>
          <a:srcRect l="0" t="0" r="0" b="11995"/>
          <a:stretch/>
        </p:blipFill>
        <p:spPr>
          <a:xfrm>
            <a:off x="2819520" y="4114800"/>
            <a:ext cx="2209680" cy="1944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Stacks of bills and coins"/>
          <p:cNvPicPr/>
          <p:nvPr/>
        </p:nvPicPr>
        <p:blipFill>
          <a:blip r:embed="rId2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Point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Have at least six-months living expenses readily available before you inve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derstand your investment.  Attend classes, seminars, or check business references in the libra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aware that some “free seminars” are marketing techniqu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derstand the risk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sure your financial adviser understands your objectives and risk toler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nderstanding FDIC Insur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1676520"/>
          <a:ext cx="8229600" cy="3170160"/>
        </p:xfrm>
        <a:graphic>
          <a:graphicData uri="http://schemas.openxmlformats.org/drawingml/2006/table">
            <a:tbl>
              <a:tblPr/>
              <a:tblGrid>
                <a:gridCol w="4038480"/>
                <a:gridCol w="4191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t Cov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t Does Not Co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cking Accou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cks or Bo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vings Accou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tual Fund Sh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ey Market Deposit Accounts (MMD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fe Insurance Poli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cates of Depos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u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A Deposit Accou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nicipal Secur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nderstanding FDIC Insurance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verage – generally $250,000 per person per categ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ateg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Single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Joint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Revocable trust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Certain retirement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5257800" y="1981080"/>
            <a:ext cx="3429000" cy="2590920"/>
          </a:xfrm>
          <a:prstGeom prst="rect">
            <a:avLst/>
          </a:prstGeom>
          <a:solidFill>
            <a:srgbClr val="4f81bd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precise inform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sit www.myfdicinsurance.gov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ll toll-fre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-877-ASK-FDIC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k your bank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ottery and Sweepstakes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have won…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Telephone calls, emails, or letters regarding lotteries, drawings, or sweepstak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quests for upfront processing fees or ta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uthentic looking claims che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weepstakes recovery ca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elephon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ello, Grandpa. I’m in trouble. Please don’t tell Mom.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4" descr="C:\Users\Michele\AppData\Local\Microsoft\Windows\Temporary Internet Files\Content.IE5\M311SBES\MC900286879[1].wmf"/>
          <p:cNvPicPr/>
          <p:nvPr/>
        </p:nvPicPr>
        <p:blipFill>
          <a:blip r:embed="rId1"/>
          <a:stretch/>
        </p:blipFill>
        <p:spPr>
          <a:xfrm rot="19300800">
            <a:off x="1917360" y="1988640"/>
            <a:ext cx="139536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ips for Avoiding Telephon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Never “pay to play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You cannot win a contest you didn’t en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suspicious of pressure to wire funds or send pre-paid c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Pay attention to warnings from your financial instit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If the caller claims an emergency, check it out at a number you know to be val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wary of requests for secre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1: Telephon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9874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each scen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nswer the ques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e prepared to explain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4" descr="Pencil"/>
          <p:cNvPicPr/>
          <p:nvPr/>
        </p:nvPicPr>
        <p:blipFill>
          <a:blip r:embed="rId1"/>
          <a:stretch/>
        </p:blipFill>
        <p:spPr>
          <a:xfrm>
            <a:off x="228600" y="22096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er/Internet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hish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uthentic looking emails, text messages, and Web pages to trick unsuspecting users into revealing personal financial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poof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mail address disguised to look like that of someone you k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11049120" y="17524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ell-tale Langu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e suspect an unauthorized transaction on your account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uring our regular verification of accounts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ur records indicate your account was overcharged..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…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lease click the link below to verify your identit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lease call the number below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 need to send my niece money right away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er/Internet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se trusted security software and make sure it is updated frequent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 not email financial information or account numb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Be cautious about opening attachments and downloading files, regardless of the sour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se passwords that are hard to gu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hut down your PC when not using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pare financially for disas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d other helpful resources on managing money and reporting financial exploi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Stacks of bills and coins"/>
          <p:cNvPicPr/>
          <p:nvPr/>
        </p:nvPicPr>
        <p:blipFill>
          <a:blip r:embed="rId1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er/Internet: Safeguard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990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 not open messages from an unfamiliar send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f you open a suspicious message, delete it; do not click on links or call telephone numbers listed in such messag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elete email and text messages that ask you to confirm or provide personal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f you are concerned about an account, call the telephone number on your stat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dentity Thef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ieves steal your personal financial information and use your identity to commit fraud and other crim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ocial Security Numb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irth dat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card and other account numb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INs and passwo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dentity Theft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tect your personal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tect incoming and outgoing mai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ign up for direct depos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se a shredder to destroy “financial trash.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Monitor bank accounts and credit card bill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void identity theft on the 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view your credit record annually and report any fraudulent activ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dentity Theft: If You Are a Victi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lace an initial fraud alert with one of the major credit reporting compan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quest copies of your credit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Make an identity theft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nsider placing a security freeze on your credit r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an Help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609480" y="12193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2f5a"/>
                </a:solidFill>
                <a:latin typeface="Helvetica Neue"/>
                <a:ea typeface="Geneva"/>
              </a:rPr>
              <a:t>Identity The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774720" y="1901880"/>
            <a:ext cx="7772400" cy="17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Geneva"/>
              </a:rPr>
              <a:t>Federal Trade Commission (F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ounded Rectangle 5"/>
          <p:cNvSpPr/>
          <p:nvPr/>
        </p:nvSpPr>
        <p:spPr>
          <a:xfrm>
            <a:off x="1092240" y="2590920"/>
            <a:ext cx="693432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ases of identity theft, contact the FTC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ftc.gov/idthe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77-IDTHEFT (438-43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1295280" y="3505320"/>
            <a:ext cx="673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Geneva"/>
              </a:rPr>
              <a:t>Social 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ounded Rectangle 7"/>
          <p:cNvSpPr/>
          <p:nvPr/>
        </p:nvSpPr>
        <p:spPr>
          <a:xfrm>
            <a:off x="1117440" y="4059360"/>
            <a:ext cx="6934320" cy="12189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"When Social Security beneficiaries become aware that they are victims of identity theft, they can block electronic access to their information in SSA's records, a service available at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socialsecurity.gov/blockacces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 "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What It 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omeone steals your personal information — such as your name and Medicare number — and uses it to get medical treatment, prescription drugs, surgery or other services and then bills Medicare for i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5" descr="C:\Users\Michele\AppData\Local\Microsoft\Windows\Temporary Internet Files\Content.IE5\M311SBES\MC900252135[1].wmf"/>
          <p:cNvPicPr/>
          <p:nvPr/>
        </p:nvPicPr>
        <p:blipFill>
          <a:blip r:embed="rId1"/>
          <a:stretch/>
        </p:blipFill>
        <p:spPr>
          <a:xfrm rot="2112000">
            <a:off x="2494080" y="3270240"/>
            <a:ext cx="179676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Ris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t is costly to corr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You could be denied a service or equip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t can affect your medical and insurance records – change your blood type or record a diagnosis for a disease you don’t 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You could receive wrong, perhaps harmful, treat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Warning Sig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 bill for services you did not rece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ntact from a collection agency for money you do not ow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Notification from insurance company that you have reached your limit for medical benef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enial of insurance for a medical condition you don’t 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Protect your Medicare and insurance c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Review Medicare Summary Notices (MSN),  insurance Explanation of Benefits (EOB) statements, and medical bi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careful about sharing personal information (see those listed in your Participant Guid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ware of offers for free equipment, services or goods in exchange for your Medicare numb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Shred papers with your medical identity and destroy prescription labels before throwing in the tras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How to Respon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7521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Obtain your medical fi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Write to your health plan or provider for corre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port your concerns to your Senior Medicare Patro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ounded Rectangle 4"/>
          <p:cNvSpPr/>
          <p:nvPr/>
        </p:nvSpPr>
        <p:spPr>
          <a:xfrm>
            <a:off x="914400" y="449568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find your state SMP contact, visi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smpresour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is elder financial exploitation and who is at ris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2: Identity Thef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view each response on the li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dicate how often you perform each a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ally your score to see how well you are taking measures to avoid ID thef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4" descr="Pencil"/>
          <p:cNvPicPr/>
          <p:nvPr/>
        </p:nvPicPr>
        <p:blipFill>
          <a:blip r:embed="rId1"/>
          <a:stretch/>
        </p:blipFill>
        <p:spPr>
          <a:xfrm>
            <a:off x="0" y="228600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lanning for the Unexpect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paring for future health problems or disa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Gives you contr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lieves stress of decision-making for you and family members or caretak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aves money and helps avoid financial setback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llows time to gather information and compare op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ing for Future Health Probl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pare a Plan: review income and expen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sure trusted family members know where to find necessary docume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t up direct deposit for income and benefit check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automatic payment of important recurring bil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ing for Future Health Problem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a Durable Power of Attorne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sure you are properly insur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intain a healthy lifesty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ceiving Social Security Benef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ocial Security and Supplemental Security Income (SSI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irect Depos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irect Express® Debit Ca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ing Financially for a Disas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you may ne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orms of identific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Driver’s license or government-issued 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Insurance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Social Security 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ass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Birth certific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ther Items You May Ne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book (blank checks and deposit slips to last at least a mont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TM cards, debit cards, credi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a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hone numbers for financial services prov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mportant account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Key to safety deposit b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otecting Your Doc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9903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backup copies of important docu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an electronic image for easy stor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Give a copy to loved ones or tell them where to find documents in an emerge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Store backups at a distance from home in case disaster affects entire commun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a record of all credit/debit cards with the account and contact numbers to report lost/stolen c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to Keep; Where to Keep 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afety deposit bo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Birth certificate and originals of important contr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me, preferably in fireproof saf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ssport, medical care directives, wil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eal important documents in airtight, waterproof bags or contain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pare emergency evacuation bag(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Else to Consi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rrange for automatic bill payment from your bank accou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gn up for Internet banking servi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ew your insurance covera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is elder financial exploitation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lder financial exploitation is the theft of money, property or belongings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dditional resour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nswers for many questions can be found a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SK CFPB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	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1"/>
              </a:rPr>
              <a:t>www.consumerfinance.gov/askcfpb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You can also contact the FDIC at:</a:t>
            </a: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01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2"/>
              </a:rPr>
              <a:t>communityaffairs@fdic.gov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3: How Financially Prepared Are You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3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hink about what you have learned to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ist the documents you will gather and where you will keep th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4" descr="Pencil"/>
          <p:cNvPicPr/>
          <p:nvPr/>
        </p:nvPicPr>
        <p:blipFill>
          <a:blip r:embed="rId1"/>
          <a:stretch/>
        </p:blipFill>
        <p:spPr>
          <a:xfrm>
            <a:off x="0" y="2362320"/>
            <a:ext cx="16192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erse Mortgag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llow homeowners 62 and older to borrow against equity in their hom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onthly interest charges are added to loan amou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vailable as a line of credit, in regular monthly installments, or as a lump su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payable when you no longer live in the ho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ust maintain the home and pay property taxes and insuranc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erse Mortgage: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mily members pressure a homeowner to get a reverse mortgage so they can “borrow” the mone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cammer requires borrower to sign a Power of Attorney or otherwise sign over procee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rokers pressure borrowers to purchase other financial produc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ortgage Assistance Relief Sc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088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ware of anyone who promises you can stay in your home or who asks for a lot of money to help you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cammers might promise guaranteed or immediate relief from foreclosure, and  might charge you very high fees for few or no services.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tractor/Home Improvement Frau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98712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ny homeowners are targeted by scam artists who use high pressure tactics to sell unneeded and overpriced contracts for "home improvements"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tractor/Home Improvement Frau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mall firm or individual, often going door-to-do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omises for quick work at below market pr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ubstandard, unnecessary, or damaging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ssures to pay through threats or intimid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ossibly impersonation of government offic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Contractor Fraud: T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Verify the identity of anyone claiming to be a government employ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Obtain written bids from local contrac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void contractors </a:t>
            </a:r>
            <a:r>
              <a:rPr b="1" i="1" lang="en-US" sz="2800" spc="-1" strike="noStrike">
                <a:solidFill>
                  <a:srgbClr val="132f5a"/>
                </a:solidFill>
                <a:latin typeface="Helvetica Neue"/>
              </a:rPr>
              <a:t>who approach you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 for licenses and complai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 referen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quire a clearly written contra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n’t pay in advance; never pay cas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6840" y="16761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n’t provide personal financial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f you need a loan, don’t let the contractor steer you to a lend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Withhold final payment until you are satisfied and all required inspections are comple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Contractor Fraud: Tip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ounded Rectangle 4"/>
          <p:cNvSpPr/>
          <p:nvPr/>
        </p:nvSpPr>
        <p:spPr>
          <a:xfrm>
            <a:off x="838080" y="4191120"/>
            <a:ext cx="7162920" cy="106668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ome Sweet Home Improvemen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ailable at the FTC website,</a:t>
            </a:r>
            <a:r>
              <a:rPr b="0" lang="en-US" sz="2400" spc="-1" strike="noStrike">
                <a:solidFill>
                  <a:srgbClr val="132f5a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ftc.gov</a:t>
            </a:r>
            <a:r>
              <a:rPr b="0" lang="en-US" sz="2400" spc="-1" strike="noStrike">
                <a:solidFill>
                  <a:srgbClr val="132f5a"/>
                </a:solidFill>
                <a:latin typeface="Calibri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by phoning 1‑877‑FTC‑HELP (382-435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cams Targeting Veterans Benef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ension Benefit Filing Sc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Marketing of financial and estate planning services to help veterans qualif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harging substantial fees to help veterans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ump-sum Payment for Future Benef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ounded Rectangle 3"/>
          <p:cNvSpPr/>
          <p:nvPr/>
        </p:nvSpPr>
        <p:spPr>
          <a:xfrm>
            <a:off x="990720" y="3962520"/>
            <a:ext cx="693396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information on VA benefits, visi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a.go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00-827-1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is at ris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nyone can be the victim of financial exploita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lder financial exploitation crosses all social, educational, and economic boundaries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VA Pension Filing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0663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Know that VA must accredit individuals who help you prepare and file a clai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Check accreditation at www.va.gov/ogc/apps/accreditation/index.as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Never pay a fee for help in filing your initial clai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Avoid attorneys or claims agents who try to market investments in connection with your clai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aware that shifting assets into certain types of investments may affect your Medicaid/Medicare benef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Lump-Sum Payment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 aware that these arrangements are very costl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ay no to arrangements that allow the lump-sum payment provider access to your accou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member that VA benefits cannot be garnished by a credi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ek advice of a trusted financial exper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914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learned abou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ypes of financial exploi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ips for recognizing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trategies for avoiding identity theft, including medical identity the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w to prepare financially for future health problems and disas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y are older adults at ris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819520" y="1219320"/>
            <a:ext cx="586728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lder adults ma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ave regular income and accumulated asse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trusting and pol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lonely and socially isola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vulnerable due to grief from the loss of a spouse, family member, friend, or p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y are older adults at ris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835360" y="1189080"/>
            <a:ext cx="5867280" cy="44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lder adults ma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Helvetica Neue"/>
                <a:ea typeface="Helvetica Neue"/>
              </a:rPr>
              <a:t>Be unfamiliar </a:t>
            </a: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ith managing financial matte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Helvetica Neue"/>
                <a:ea typeface="Helvetica Neue"/>
              </a:rPr>
              <a:t>Be unprepared </a:t>
            </a: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for retirement and the potential loss of financial decision-making capacity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ave cognitive impairmen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Helvetica Neue"/>
                <a:ea typeface="Helvetica Neue"/>
              </a:rPr>
              <a:t>Be receiving </a:t>
            </a: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are from a person with substance abuse, gambling or financial problems, or mental health issu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dependent on a family member , caregiver or another person who may pressure them for money or control of their financ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>ddeibel@fdic.gov</dc:creator>
  <dc:description/>
  <dc:language>en-US</dc:language>
  <cp:lastModifiedBy>Deibel, David</cp:lastModifiedBy>
  <cp:lastPrinted>2013-05-21T13:29:21Z</cp:lastPrinted>
  <dcterms:modified xsi:type="dcterms:W3CDTF">2013-06-05T14:20:00Z</dcterms:modified>
  <cp:revision>48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